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ct" ContentType="image/x-pict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6BBC-EED9-40BB-8791-0FA4F9194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62D9-3986-446F-947C-753D4907B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AC2D-7923-413B-B70D-7AF13E7A6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BA82-B18B-45C9-AD31-1FB44C541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7690-7BF1-48C3-B32A-30CFE879B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E1C2-0D0A-4C8A-96D3-E4C3ADE3D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BB12-17D5-43AD-BBA7-2ED4FBBCB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BB3F-BDF9-411F-82DA-F2C22CB77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5642-8E5D-42D6-B8B5-91769F197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DA82-E231-4CE6-951C-2E595F593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FFE6-DE1D-4412-9A0C-402D1D0F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450D-9DB8-47E5-98CA-EA0C2AB6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C47BA-4712-4F4C-B64E-794368B8AE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5257800"/>
            <a:ext cx="8153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The Little Snowbal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36840" y="689040"/>
            <a:ext cx="685800" cy="5792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22440" y="1020600"/>
            <a:ext cx="5943600" cy="3856320"/>
          </a:xfrm>
          <a:custGeom>
            <a:avLst/>
            <a:gdLst/>
            <a:ahLst/>
            <a:rect l="l" t="t" r="r" b="b"/>
            <a:pathLst>
              <a:path w="9360" h="6690">
                <a:moveTo>
                  <a:pt x="0" y="30"/>
                </a:moveTo>
                <a:cubicBezTo>
                  <a:pt x="795" y="15"/>
                  <a:pt x="1590" y="0"/>
                  <a:pt x="2160" y="210"/>
                </a:cubicBezTo>
                <a:cubicBezTo>
                  <a:pt x="2730" y="420"/>
                  <a:pt x="3000" y="810"/>
                  <a:pt x="3420" y="1290"/>
                </a:cubicBezTo>
                <a:cubicBezTo>
                  <a:pt x="3840" y="1770"/>
                  <a:pt x="4350" y="2520"/>
                  <a:pt x="4680" y="3090"/>
                </a:cubicBezTo>
                <a:cubicBezTo>
                  <a:pt x="5010" y="3660"/>
                  <a:pt x="5010" y="4230"/>
                  <a:pt x="5400" y="4710"/>
                </a:cubicBezTo>
                <a:cubicBezTo>
                  <a:pt x="5790" y="5190"/>
                  <a:pt x="6360" y="5640"/>
                  <a:pt x="7020" y="5970"/>
                </a:cubicBezTo>
                <a:cubicBezTo>
                  <a:pt x="7680" y="6300"/>
                  <a:pt x="8970" y="6570"/>
                  <a:pt x="9360" y="669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36840" y="689040"/>
            <a:ext cx="685800" cy="5792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33520" y="5638680"/>
            <a:ext cx="815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e day a little snowball went rolling down a hi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22440" y="1020600"/>
            <a:ext cx="5943600" cy="4248360"/>
          </a:xfrm>
          <a:custGeom>
            <a:avLst/>
            <a:gdLst/>
            <a:ahLst/>
            <a:rect l="l" t="t" r="r" b="b"/>
            <a:pathLst>
              <a:path w="9360" h="6690">
                <a:moveTo>
                  <a:pt x="0" y="30"/>
                </a:moveTo>
                <a:cubicBezTo>
                  <a:pt x="795" y="15"/>
                  <a:pt x="1590" y="0"/>
                  <a:pt x="2160" y="210"/>
                </a:cubicBezTo>
                <a:cubicBezTo>
                  <a:pt x="2730" y="420"/>
                  <a:pt x="3000" y="810"/>
                  <a:pt x="3420" y="1290"/>
                </a:cubicBezTo>
                <a:cubicBezTo>
                  <a:pt x="3840" y="1770"/>
                  <a:pt x="4350" y="2520"/>
                  <a:pt x="4680" y="3090"/>
                </a:cubicBezTo>
                <a:cubicBezTo>
                  <a:pt x="5010" y="3660"/>
                  <a:pt x="5010" y="4230"/>
                  <a:pt x="5400" y="4710"/>
                </a:cubicBezTo>
                <a:cubicBezTo>
                  <a:pt x="5790" y="5190"/>
                  <a:pt x="6360" y="5640"/>
                  <a:pt x="7020" y="5970"/>
                </a:cubicBezTo>
                <a:cubicBezTo>
                  <a:pt x="7680" y="6300"/>
                  <a:pt x="8970" y="6570"/>
                  <a:pt x="9360" y="669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4114800"/>
            <a:ext cx="81532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bounced and rolled and picked up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got bigger.</a:t>
            </a:r>
            <a:r>
              <a:rPr b="0" lang="en-US" sz="2400" spc="-1" strike="noStrike">
                <a:solidFill>
                  <a:srgbClr val="000000"/>
                </a:solidFill>
                <a:latin typeface="Stone Sans ITC TT-Bol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657600" y="1447920"/>
            <a:ext cx="1905120" cy="1614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858000" y="495288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Verdana"/>
              </a:rPr>
              <a:t>Child’s Pi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3520" y="4419720"/>
            <a:ext cx="81532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bounced and rolled and picked up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got bigg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200400" y="1447920"/>
            <a:ext cx="2362320" cy="2001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858000" y="525780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Verdana"/>
              </a:rPr>
              <a:t>Child’s Pi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90720" y="45720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Verdana"/>
              </a:rPr>
              <a:t>Note: Keep inserting duplicates of this page and making the snowball big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228600"/>
            <a:ext cx="830556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the bottom of the hill, the snowba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t a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went SPLAT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veryone fell 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809880" y="609480"/>
            <a:ext cx="5334120" cy="59086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143000" y="2276640"/>
            <a:ext cx="594360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" dur="2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362320" y="45720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33520" y="4648320"/>
            <a:ext cx="8153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The E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4T04:10:44Z</dcterms:created>
  <dc:creator>Patti Porto</dc:creator>
  <dc:description/>
  <dc:language>en-US</dc:language>
  <cp:lastModifiedBy>Patti Porto</cp:lastModifiedBy>
  <dcterms:modified xsi:type="dcterms:W3CDTF">2008-01-24T17:10:43Z</dcterms:modified>
  <cp:revision>9</cp:revision>
  <dc:subject/>
  <dc:title>PowerPoint Presentation</dc:title>
</cp:coreProperties>
</file>